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D8BE-DF21-415A-8A2E-0DB2E9CF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75C-8F08-445E-A83B-FC993D01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2CC-48C2-439E-B46F-5536640E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998-AC4B-4F49-8E52-283857AB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0660-A5C2-48BB-9367-5F752F50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CD6D-63E0-492E-9C8E-6EF52B81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F1DB-FCE3-4AE4-B0F7-12D6155F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C7BD-7110-4738-A359-BAA751C0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9831-F4F5-4DAE-B136-BD6D3161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398B-2898-4395-BC00-20BF3564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1205-F4D9-4C19-986C-1E0CCAE1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0D8-A6FF-4B80-9E75-4A643236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3A5E-51C9-4A7D-99A5-36A01B98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2427-E146-4023-957F-DA7884D8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7288-FF5D-43D3-A13C-E599CE40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398C-5465-41C7-AE03-DFCCE55C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88BA-7CB0-4780-8237-29DF77EE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EAF-F8B0-4458-9008-CFE29CB9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6FA-61AF-4D8F-965E-F49DE94E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2D7-A965-4DE4-8169-FCBC20CE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A9C-2EF3-46CB-9DDC-D28206DC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54F-E7C4-4F91-8FD4-A04BC637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7A3-C2BF-450A-9B2D-38FFB389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BD6-4EAD-4197-B4A7-CC75350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81CA-4801-4916-B5B5-BE131164EB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1478-5106-4F3A-871F-7C7EA20860C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200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Earwig Factory"/>
              </a:rPr>
              <a:t>Sophomore Clas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09680" y="5866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pee"/>
              </a:rPr>
              <a:t>Purpose of Advisory Perio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533520"/>
            <a:ext cx="408636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Sophomore Focus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MS Pre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AP: Career Portfol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76920" y="2590920"/>
            <a:ext cx="3968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AIMS Prep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MS reading, writing and math skill buil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 taking strateg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y Ski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05320" y="3429000"/>
            <a:ext cx="3381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Sophomore Focu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ECA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eer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umé wri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er Explo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er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ge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ge Searc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AT information/pract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1064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960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21:15:10Z</dcterms:created>
  <dc:creator>Tech</dc:creator>
  <dc:description/>
  <dc:language>en-US</dc:language>
  <cp:lastModifiedBy>Leif Erickson</cp:lastModifiedBy>
  <dcterms:modified xsi:type="dcterms:W3CDTF">2011-08-07T14:46:25Z</dcterms:modified>
  <cp:revision>11</cp:revision>
  <dc:subject/>
  <dc:title>Sophomore Class </dc:title>
</cp:coreProperties>
</file>